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3AF-E06C-4161-A672-E307F348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D49-6CCC-4351-A1F2-82A77343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161-828C-4A07-95B3-A184BC8F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A3B-3BAE-4049-92D8-1666600C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0F5C-D6CF-450E-9F25-5F6F987E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495F-6A0A-45C9-AC0C-0A350867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9355-E290-4BE3-9CAC-3F7E9C19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7644-C9B3-4B8A-B345-120AA3D6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94A8-B0BD-4100-BD00-CF683B19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A13A-CDC6-42A0-9474-5F2F1B25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512E-D983-4C25-901E-697A64A7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864-B584-4C21-A3E8-9C3A744D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5789-36A9-41F5-8E72-4235AF4A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68F8-B498-48B1-9D49-D7180194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92FB-FDC7-43E1-8614-55908BA4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2D39-7670-4789-9004-89B6B405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2E84-010F-4D05-83F5-A9815811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DAF-6211-45F7-BF5D-38EDC736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CD5-404C-4BA1-9774-3F1E89D0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033-A6EB-48D3-927B-E7E42C43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28A-316C-4DAC-AA03-9F103EB5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0BA-685C-4563-B952-00683A33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36A-5806-4390-8EBE-A4F74462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485-460E-419D-A1A6-BDD3B76B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E647-97BC-4882-937B-E6A0A5CF65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FA64-994E-4EAF-ADAA-5C8953681F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regbradyproject.com/blog/wp-content/uploads/2008/02/039_45554happy-days-posters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beatlephoto.blogspot.com/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ocial Institu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in, C.M., &amp; Colyer, J.S. (2001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Human w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oronto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napshot - Education 194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752480"/>
            <a:ext cx="54100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52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00 students who entered gra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 entered seconda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graduated from grade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graduated from grade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6680" y="548640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orm was necessa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ast Challenge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1945-1950’s – Traditionalist Refor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compulsory subjects and reduced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zed provincia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power of teachers to develop local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grants for gyms and auditori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and business subjects received little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810240" cy="291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23619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ast Challenge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1960s: Progressive Re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manufacturing sector became mo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trained technicians drove school r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y bo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Reorganized Programme” or Robarts Plan (Three streams after grade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s and Science leading to grade 13 grad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and Commerce leading to grade 12 grad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Trades, Technology leading to either grade 12 graduation or grade 10 dipl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ast Challenge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The 1960s: Progressive Reforms cont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ment and retention in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1960, 67% of 15-19 year olds were in scho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1968 – 77% of 15-19 year olds were in scho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education became mo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rig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cked into your stream after grade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nce-wide final exams for university ent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333600" cy="2324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2763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1960’s School Reforms continu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l Dennis Report in 1968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dit 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dopted – don’t have to fail entire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lsory courses kept to a minim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ing should focus on students’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es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nk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iv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 not just memorizing 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id streaming should 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unishment, but encouraged to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1969-72 School Reforms continue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to the adoption of High School (1969-72 introduc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13 province-wide exams abo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oards abolished exams entir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courses encour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consultation encour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ario Schools: Intermediate and Senior (OSIS) 1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tinction between grade 12 and 13 grad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streams – basic, general, advanced  - based on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1970s and 80s: Multicultural Edu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policy in 197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er of Rights in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evels of multicultur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festiva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t speakers, fairs, celebration of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in the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WWII volunteers from different backg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racism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roots of inequality and study injus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5242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Aboriginal Edu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4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iginals are a federal responsibility, education is provi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courses are available in Native Languages and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11 colleg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ty, Relationships, Sovereignty, Challenges, Wri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ities have separate Aboriginal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s Indians Cultural Survival School in Calgary (7-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iginal schools are less isolated because of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 Ussak school in Rankin Inlet linked to a Hawai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85732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019920" y="4495680"/>
            <a:ext cx="2857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1990s: The Ontario Curriculu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s emphasized costs relative to stude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3 Canada spent 6.9% of GDP o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Norway and Sweden spend m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uation standards were seen as not high en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$1 billion removed from school boards 1996-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nce wide walkout by teachers in 1997 for two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Ontario Curriculum Reforms –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1999-2002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a 4 year program, like other provi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credits for grad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credits increased from 14 to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hours of volunteer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cy test in grad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nsistent assessment and e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% term work, 30% fi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and academic in junior grades, and Workplace, College, University or Open in senior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courses allow students to change 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nce wide testing in grades 3, 6, 9 and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art 1 </a:t>
            </a:r>
            <a:r>
              <a:rPr b="1" i="1" lang="en-US" sz="4400" spc="-1" strike="noStrike">
                <a:solidFill>
                  <a:srgbClr val="330033"/>
                </a:solidFill>
                <a:latin typeface="Times New Roman"/>
              </a:rPr>
              <a:t>Purpose of Education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upporters of the new program – Your Program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 clearer, more consistent picture of student achiev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, T, C, A and most consist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ade reflects what student has demonstrated they are capable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s more relevant to destination (U, C, 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nce-wide testing alerts teachers and parents to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uarantees quality of diplo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ows public to compare students from different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ponents of the new progra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rigid, little room for local variation (electi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s teaching to the test – facts rather than crea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 and resources spent on EQAO – Teacher can provide the same information at no additional cost to what they are already being paid for doing their job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ulds students instead of responding to thei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hool Timel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343400"/>
            <a:ext cx="1141200" cy="143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4572000"/>
            <a:ext cx="1143000" cy="11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914400" y="3886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7200" y="3693960"/>
            <a:ext cx="1433520" cy="368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5-195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64600" y="3693960"/>
            <a:ext cx="1433520" cy="368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0’s-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9040" y="3657600"/>
            <a:ext cx="801000" cy="368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73400" y="3618000"/>
            <a:ext cx="801000" cy="368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32240" y="3657600"/>
            <a:ext cx="686520" cy="368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523880"/>
            <a:ext cx="1676160" cy="1828800"/>
          </a:xfrm>
          <a:prstGeom prst="wedgeRectCallout">
            <a:avLst>
              <a:gd name="adj1" fmla="val 16759"/>
              <a:gd name="adj2" fmla="val 67013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ist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mpulsory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entr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1143000"/>
            <a:ext cx="2209680" cy="2209680"/>
          </a:xfrm>
          <a:prstGeom prst="wedgeRectCallout">
            <a:avLst>
              <a:gd name="adj1" fmla="val -8907"/>
              <a:gd name="adj2" fmla="val 64296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143000"/>
            <a:ext cx="21780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t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e 12, 13 g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dged – locked into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am after gr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3352680" y="4419720"/>
            <a:ext cx="2895840" cy="2133360"/>
          </a:xfrm>
          <a:prstGeom prst="wedgeRectCallout">
            <a:avLst>
              <a:gd name="adj1" fmla="val 12060"/>
              <a:gd name="adj2" fmla="val 75296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8195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69-72 School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compulsory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elective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ex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asic / general / adv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066680"/>
            <a:ext cx="1752840" cy="2210040"/>
          </a:xfrm>
          <a:prstGeom prst="wedgeRectCallout">
            <a:avLst>
              <a:gd name="adj1" fmla="val 25453"/>
              <a:gd name="adj2" fmla="val 78449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08440" y="1143000"/>
            <a:ext cx="176868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od / festi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edded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nti-ra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219320"/>
            <a:ext cx="2133720" cy="2209680"/>
          </a:xfrm>
          <a:prstGeom prst="wedgeRectCallout">
            <a:avLst>
              <a:gd name="adj1" fmla="val 3125"/>
              <a:gd name="adj2" fmla="val 70472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93120" y="1179360"/>
            <a:ext cx="20412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ario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 billion c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credit grad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unt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/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05120" y="38862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43200" y="41148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7162920" y="4343400"/>
            <a:ext cx="1600200" cy="2189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10800000">
            <a:off x="5866920" y="4191120"/>
            <a:ext cx="1600200" cy="914400"/>
          </a:xfrm>
          <a:prstGeom prst="wedgeRectCallout">
            <a:avLst>
              <a:gd name="adj1" fmla="val 33629"/>
              <a:gd name="adj2" fmla="val 85069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4320" y="43434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Other models of Education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Behaviourist Schoo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the work of Pavlov and Ski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reinforcement more effective than nega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’s role is not to force students to achieve externally developed expectations, or to rank students against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how much students learn from a starting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- and post-learning assess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Other models of Educa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Marxist Free Schoo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tion leads to alienation among those who f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student decides what he or she would like to lea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acher guides and facilitates the learning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art 3 – </a:t>
            </a:r>
            <a:r>
              <a:rPr b="1" i="1" lang="en-US" sz="4400" spc="-1" strike="noStrike">
                <a:solidFill>
                  <a:srgbClr val="330033"/>
                </a:solidFill>
                <a:latin typeface="Times New Roman"/>
              </a:rPr>
              <a:t>Issues in Educat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Issues in Education</a:t>
            </a:r>
            <a:br>
              <a:rPr sz="3800"/>
            </a:b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School Discipline</a:t>
            </a:r>
            <a:br>
              <a:rPr sz="38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ario Schools Code of Conduct introduced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discipline including mandatory suspension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reatening another stud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earing at a teacher or other authority fig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s education’s philosophical shift to a more tradition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ork in progress.  School boards constantly revising school Disciplin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Issues in Education</a:t>
            </a:r>
            <a:br>
              <a:rPr sz="3600"/>
            </a:b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Dropping Out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% of all 18-20 year olds left before gradu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% had no more than grade 9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r for men (18%) than for women (1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opouts most likely to find work in low-paid servic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link between dropping out and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Dropping-out continu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dropouts (Barlow and Roberston 199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s didn’t complete 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d schools a number of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alone or with friends, not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hile attending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/family don’t think completing high school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nancy or dependent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Dropping Out continued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art time work and dropping ou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 of hours reduced risk of dropp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many hours increased dropout risk for 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employment increased dropout risk for fema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421020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urpose of Education –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oday -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2 Schools of Though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3124080" cy="430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alis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ucation system helps society achie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s an importa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09720" y="1828800"/>
            <a:ext cx="3124440" cy="430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fl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ucation system is a tool used by those in power to control society and maintain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5053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198160" y="634680"/>
            <a:ext cx="5434920" cy="5435640"/>
            <a:chOff x="2198160" y="634680"/>
            <a:chExt cx="5434920" cy="5435640"/>
          </a:xfrm>
        </p:grpSpPr>
        <p:sp>
          <p:nvSpPr>
            <p:cNvPr id="195" name="_s71695"/>
            <p:cNvSpPr/>
            <p:nvPr/>
          </p:nvSpPr>
          <p:spPr>
            <a:xfrm flipH="1">
              <a:off x="3555360" y="3352680"/>
              <a:ext cx="6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71694"/>
            <p:cNvSpPr/>
            <p:nvPr/>
          </p:nvSpPr>
          <p:spPr>
            <a:xfrm>
              <a:off x="2198160" y="2673360"/>
              <a:ext cx="1357560" cy="13579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porat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71693"/>
            <p:cNvSpPr/>
            <p:nvPr/>
          </p:nvSpPr>
          <p:spPr>
            <a:xfrm>
              <a:off x="4915800" y="4031640"/>
              <a:ext cx="0" cy="68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71692"/>
            <p:cNvSpPr/>
            <p:nvPr/>
          </p:nvSpPr>
          <p:spPr>
            <a:xfrm>
              <a:off x="4236840" y="4712760"/>
              <a:ext cx="1357560" cy="13575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rt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o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71691"/>
            <p:cNvSpPr/>
            <p:nvPr/>
          </p:nvSpPr>
          <p:spPr>
            <a:xfrm>
              <a:off x="5594400" y="3352680"/>
              <a:ext cx="6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71690"/>
            <p:cNvSpPr/>
            <p:nvPr/>
          </p:nvSpPr>
          <p:spPr>
            <a:xfrm>
              <a:off x="6275160" y="2673360"/>
              <a:ext cx="1357920" cy="13579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m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oo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71689"/>
            <p:cNvSpPr/>
            <p:nvPr/>
          </p:nvSpPr>
          <p:spPr>
            <a:xfrm flipV="1">
              <a:off x="4915800" y="1992240"/>
              <a:ext cx="0" cy="68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71688"/>
            <p:cNvSpPr/>
            <p:nvPr/>
          </p:nvSpPr>
          <p:spPr>
            <a:xfrm>
              <a:off x="4236840" y="634680"/>
              <a:ext cx="1357560" cy="13575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71687"/>
            <p:cNvSpPr/>
            <p:nvPr/>
          </p:nvSpPr>
          <p:spPr>
            <a:xfrm>
              <a:off x="4236840" y="2673360"/>
              <a:ext cx="1357560" cy="13579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uture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du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rot="10800000">
            <a:off x="5943600" y="4343400"/>
            <a:ext cx="2209680" cy="1828800"/>
          </a:xfrm>
          <a:prstGeom prst="wedgeRectCallout">
            <a:avLst>
              <a:gd name="adj1" fmla="val 13217"/>
              <a:gd name="adj2" fmla="val 7031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426708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4343400"/>
            <a:ext cx="2361960" cy="1981080"/>
          </a:xfrm>
          <a:prstGeom prst="wedgeRectCallout">
            <a:avLst>
              <a:gd name="adj1" fmla="val 59407"/>
              <a:gd name="adj2" fmla="val 600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schools funded by public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be religious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228600"/>
            <a:ext cx="2362320" cy="1981080"/>
          </a:xfrm>
          <a:prstGeom prst="wedgeRectCallout">
            <a:avLst>
              <a:gd name="adj1" fmla="val -71101"/>
              <a:gd name="adj2" fmla="val -280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ourses available online in most 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, mor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28600"/>
            <a:ext cx="3353040" cy="2666880"/>
          </a:xfrm>
          <a:prstGeom prst="wedgeRectCallout">
            <a:avLst>
              <a:gd name="adj1" fmla="val 19601"/>
              <a:gd name="adj2" fmla="val 388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ions pay schools for access or advert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NN – Youth News Networ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dio/visual equipment in exchange for 2 min of advertising in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urpose of Educa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Functionalist Approa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s help society achieve stability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knowledg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ing cultural transmission of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ing soci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e individual students molded into a cohesiv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ing famil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and guidance counselors as confidants/ ad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urpose of Education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Conflict Perspective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ducation system is a tool used by those in power to control society and maintain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purpose of education is to teach a hidden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ormity to cultural n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pare students to work for the 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perpetuates social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Conflict Perspective - continue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indergarten as Boot C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1991 study by Harry Grac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bserved kindergarten teachers disciplining stu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k only when asked to s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ing permission to s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ey authority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achers reward obedient behaviour and punish non-conform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goal is to mould individuals into a compliant group who will unthinkingly follow classroom routi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4343400"/>
            <a:ext cx="3962520" cy="2298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002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Conflict Perspective - continue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intaining Clas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from wealthy families are more likely to be placed on university bound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from poor families are over-represented in vocationa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2 and 1996 studies (Porter &amp; Porter; Henslin &amp; Nel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social class = 4x more likely to be in ‘academic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= higher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structures tend to reproduce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ast Challenges in Education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Competing Philosoph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276720" cy="39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ilosop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must teach skills for finding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in a disciplined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curriculum, rigid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4120" y="2133360"/>
            <a:ext cx="3200400" cy="39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iculum should be flexible and adapt to the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hould select what they want to learn and be involved in deciding the best way to lear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37339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art 2 – </a:t>
            </a:r>
            <a:r>
              <a:rPr b="1" i="1" lang="en-US" sz="4800" spc="-1" strike="noStrike">
                <a:solidFill>
                  <a:srgbClr val="330033"/>
                </a:solidFill>
                <a:latin typeface="Times New Roman"/>
              </a:rPr>
              <a:t>Past Challeng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Reform – 1940’s –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haviour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xist-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6:47:39Z</dcterms:created>
  <dc:creator>Administrator</dc:creator>
  <dc:description/>
  <dc:language>en-US</dc:language>
  <cp:lastModifiedBy>Customer</cp:lastModifiedBy>
  <dcterms:modified xsi:type="dcterms:W3CDTF">2010-05-14T16:57:05Z</dcterms:modified>
  <cp:revision>8</cp:revision>
  <dc:subject/>
  <dc:title>Social Institutions</dc:title>
</cp:coreProperties>
</file>